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30.jpeg" ContentType="image/jpeg"/>
  <Override PartName="/ppt/media/image3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29.jpeg" ContentType="image/jpeg"/>
  <Override PartName="/ppt/media/image46.png" ContentType="image/png"/>
  <Override PartName="/ppt/media/image6.wmf" ContentType="image/x-wmf"/>
  <Override PartName="/ppt/media/image48.jpeg" ContentType="image/jpeg"/>
  <Override PartName="/ppt/media/image49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2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42.jpeg" ContentType="image/jpeg"/>
  <Override PartName="/ppt/media/image36.jpeg" ContentType="image/jpeg"/>
  <Override PartName="/ppt/media/image20.png" ContentType="image/png"/>
  <Override PartName="/ppt/media/image38.jpeg" ContentType="image/jpe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28A-758B-40B5-A378-61879763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6C05-3CF8-4134-8F0B-46C26A01B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A68-BB2C-42E9-B95D-7040984162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061640" y="434340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ly not Baudot code, though we call it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AB7-F362-43BC-9767-142E8D8C6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ual Morse (1791 – 1872), American co-inventor of Mors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ily decoded by human 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le Baudot (1845 – 1903), French inventor of Baudot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uited to machine deco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F86-A3F2-4711-BB3F-3F1B254D7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061640" y="434340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DD9-1DC9-44AF-AAF2-B88A71AA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6B8-07F0-4F7C-9FC2-2F92BC1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15E-549E-4C34-9683-3AA035DE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DC4-229E-4C68-828B-377DFEC2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DF7E-90FC-4DBE-8EB4-A90743A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6EDD-60FA-40D3-AF99-5F7468F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A6DD-136C-435E-AA9B-1474B2D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C14D-E731-462D-8B5C-40F8CB9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40A3-ECCA-4697-821E-4984444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B06-4D4D-446F-8317-1B1A99E9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F048-B30C-4B21-823F-F41C15D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512-53E9-433E-B5E8-2C28931E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CB6-E85B-4263-B0C6-03BCB30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4A9-1349-474A-BB9F-952D07B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51F-1094-4E6C-ACBC-018093B4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E02F-1302-4337-ACEC-47218F3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5559-3300-48D1-9FBC-45364325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9BA-DBE4-4F2C-9EA6-97FCC231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F5D-E06A-41D1-853E-E964C86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B8C-7B3B-4CA4-BC41-94FDEF85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ECE-8227-4C1E-9B08-935D22C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552-860C-4169-869E-5D9B080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FF1-0773-4DBE-A2D5-9428D09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878-F427-4BE9-873E-E865DAA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86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536-7F49-4A70-B30A-808D8BA476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550-6183-4A34-920A-747C0CE025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" name="Picture 40" descr="9267_CTULogo"/>
          <p:cNvPicPr/>
          <p:nvPr/>
        </p:nvPicPr>
        <p:blipFill>
          <a:blip r:embed="rId2"/>
          <a:stretch/>
        </p:blipFill>
        <p:spPr>
          <a:xfrm>
            <a:off x="704880" y="6019920"/>
            <a:ext cx="1123920" cy="5554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1" descr="ICOM blk red"/>
          <p:cNvPicPr/>
          <p:nvPr/>
        </p:nvPicPr>
        <p:blipFill>
          <a:blip r:embed="rId3"/>
          <a:stretch/>
        </p:blipFill>
        <p:spPr>
          <a:xfrm>
            <a:off x="7416720" y="6086520"/>
            <a:ext cx="104148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3" descr="9267_CTULogoWhite"/>
          <p:cNvPicPr/>
          <p:nvPr/>
        </p:nvPicPr>
        <p:blipFill>
          <a:blip r:embed="rId2"/>
          <a:stretch/>
        </p:blipFill>
        <p:spPr>
          <a:xfrm>
            <a:off x="3124080" y="5486400"/>
            <a:ext cx="1123920" cy="55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4" descr="ICOM wht_red"/>
          <p:cNvPicPr/>
          <p:nvPr/>
        </p:nvPicPr>
        <p:blipFill>
          <a:blip r:embed="rId3"/>
          <a:stretch/>
        </p:blipFill>
        <p:spPr>
          <a:xfrm>
            <a:off x="4970520" y="5583240"/>
            <a:ext cx="1023840" cy="482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F72-B005-4905-97B7-4AF56C6C03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hyperlink" Target="http://usinterface.com/naviusa_004.htm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rttycontesting.com/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rttycontesting.com/rttymessages.htm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aa5au/gettingstarted/rtty_subbands.htm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chem.ch.huji.ac.il/~eugeniik/history/baudot.html" TargetMode="External"/><Relationship Id="rId2" Type="http://schemas.openxmlformats.org/officeDocument/2006/relationships/hyperlink" Target="http://www.rttycontesting.com/" TargetMode="External"/><Relationship Id="rId3" Type="http://schemas.openxmlformats.org/officeDocument/2006/relationships/hyperlink" Target="mailto:rtty@contesting.com" TargetMode="External"/><Relationship Id="rId4" Type="http://schemas.openxmlformats.org/officeDocument/2006/relationships/hyperlink" Target="file:///../2008/mmhamsoft.amateur-radio.ca/" TargetMode="External"/><Relationship Id="rId5" Type="http://schemas.openxmlformats.org/officeDocument/2006/relationships/hyperlink" Target="file:///../2010/n1mm.hamdocs.com/tiki-index.php" TargetMode="External"/><Relationship Id="rId6" Type="http://schemas.openxmlformats.org/officeDocument/2006/relationships/hyperlink" Target="http://www.writelog.com/" TargetMode="External"/><Relationship Id="rId7" Type="http://schemas.openxmlformats.org/officeDocument/2006/relationships/hyperlink" Target="http://www.wintest.com/" TargetMode="External"/><Relationship Id="rId8" Type="http://schemas.openxmlformats.org/officeDocument/2006/relationships/hyperlink" Target="mailto:mmtty@yahoogroups.com" TargetMode="External"/><Relationship Id="rId9" Type="http://schemas.openxmlformats.org/officeDocument/2006/relationships/hyperlink" Target="mailto:N1MMLogger@yahoogroups.com" TargetMode="External"/><Relationship Id="rId10" Type="http://schemas.openxmlformats.org/officeDocument/2006/relationships/hyperlink" Target="mailto:N1MMLogger@yahoogroups.com" TargetMode="External"/><Relationship Id="rId11" Type="http://schemas.openxmlformats.org/officeDocument/2006/relationships/hyperlink" Target="mailto:writelog@contesting.com" TargetMode="External"/><Relationship Id="rId12" Type="http://schemas.openxmlformats.org/officeDocument/2006/relationships/hyperlink" Target="mailto:support@win-test.com" TargetMode="External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TU 2011 Kynnir: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30000" y="3049560"/>
            <a:ext cx="5567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ð byrja R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pnisferil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ö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Ed Muns, W0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Þýtt af Ársæli TF3A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376A-607F-47B4-A3E6-F5BF5AAF14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45.45 Baud = 60 WPM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Ósamstillt flæði sta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biti Start púls (Sp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bitar af upplýsingum (stafakóð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5 biti Stopp púls (Mar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rtty_d"/>
          <p:cNvPicPr/>
          <p:nvPr/>
        </p:nvPicPr>
        <p:blipFill>
          <a:blip r:embed="rId1"/>
          <a:stretch/>
        </p:blipFill>
        <p:spPr>
          <a:xfrm>
            <a:off x="1752480" y="1676520"/>
            <a:ext cx="5023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CAC-F7A5-4FCE-A0D4-55299A158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1386000" y="1530360"/>
            <a:ext cx="676080" cy="676440"/>
          </a:xfrm>
          <a:custGeom>
            <a:avLst/>
            <a:gdLst>
              <a:gd name="textAreaLeft" fmla="*/ 99000 w 676080"/>
              <a:gd name="textAreaRight" fmla="*/ 577080 w 676080"/>
              <a:gd name="textAreaTop" fmla="*/ 99000 h 676440"/>
              <a:gd name="textAreaBottom" fmla="*/ 577440 h 67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868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magic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r>
              <a:rPr b="1" lang="en-GB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(saga kóðans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71936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udot kóðinn (18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 bit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bit ITA1 kóð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ö 32-bita stafas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f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ák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rray kóðinn (19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etype character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stern Union var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5-bit ITA2 code (193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Arial"/>
              </a:rPr>
              <a:t>USTTY var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II (196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-bit ITA5 kóð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410080" y="1741320"/>
          <a:ext cx="2133720" cy="42674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468360"/>
                <a:gridCol w="446040"/>
              </a:tblGrid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 Characte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T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G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gur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TT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Q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'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'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"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Line 1575"/>
          <p:cNvSpPr/>
          <p:nvPr/>
        </p:nvSpPr>
        <p:spPr>
          <a:xfrm flipV="1">
            <a:off x="4343400" y="4419360"/>
            <a:ext cx="990720" cy="533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C16-E19C-4EE2-8595-09FBD6F5E2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br>
              <a:rPr sz="47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(Táknskipting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g </a:t>
            </a:r>
            <a:r>
              <a:rPr b="0" i="1" lang="en-GB" sz="26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tafir prentast ek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óðinn fyrir stafina “Q” og “1” er sá sami; sá sem prentast byggist á því hvort þú ert í Stafa eða Tákna sett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hugið það að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g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spa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tafirnir birtast í báðum sett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æmi: “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KI7GUO DE K4GMH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” gæti verið sent s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GUO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spac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spac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GM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 hverju erum við að leggja á okkur að skilja þet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 lofttruflanir brengla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tafina, þá kemur öll runan eftir það röng þangað til næsti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LTR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ða </a:t>
            </a:r>
            <a:r>
              <a:rPr b="0" i="1" lang="en-GB" sz="2200" spc="-1" strike="noStrike">
                <a:solidFill>
                  <a:srgbClr val="cc9900"/>
                </a:solidFill>
                <a:latin typeface="Arial"/>
              </a:rPr>
              <a:t>FI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tafur birt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F60-5C8F-46CB-AF46-15EEC7FC7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0000"/>
                </a:solidFill>
                <a:latin typeface="Arial"/>
              </a:rPr>
              <a:t>Hvað er RTTY? </a:t>
            </a:r>
            <a:br>
              <a:rPr sz="43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(UnShift on Space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hift On Space (USOS or U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nkar truflanahættu fyrir stafa tex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l (Space) táknið þrýstir á skiptingu yfir í Stafa set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ppnis-viðskipti eru: stafir og nú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Ætti UOS að vera á eða af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Ætti Bil eða Bandstrik aða afmarka það sem skipst er á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Meðmæl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Hafið kveikt á bæði RX &amp; TX UOS og notið Space á mil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Nánar útskýrt í “Advanced RTTY Contesting”    ;&gt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D679-D8C4-42FA-BC39-29CAD70A82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 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ljóðtóna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ce and Mark hljóð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ó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jálfgefið: 2295 og 2125 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ni erfiðleikar með: 1085 og 915 H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liðstætt CW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ónhæð heyritíðnin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ndans að v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er notandi getur notað mismunandi tónas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in er alltaf tvær burðarbylgjur með 170Hz mill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ður að vera eins á báðum end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291-44E8-4BF5-8882-F045988DE5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FSK eða FS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vær aðferðir á sending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K (Audio Frequency Shift Keyin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el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ir hljóðtóna til SSB send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í gegnum hljóðnemateng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ða auka hljóð teng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SK (Frequency Shift Keying)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nútí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yklar sendinn líkt og C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Ath: Móttakan er sú sama í báðum tilvik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42B-7BBE-4C67-BCC1-721B9D98A4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 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sýnileg tíðni )</a:t>
            </a:r>
            <a:br>
              <a:rPr sz="3200"/>
            </a:b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r>
              <a:rPr b="1" i="1" lang="en-US" sz="1600" spc="-1" strike="noStrike">
                <a:solidFill>
                  <a:srgbClr val="666699"/>
                </a:solidFill>
                <a:latin typeface="Arial"/>
              </a:rPr>
              <a:t>oft ekki rétt tíðni á kösinni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TY RF er óháð af hljóðtónum og hvort sem LSB eða USB er nota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ærri RF tíðnin er Mark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14090.0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ægri RF tíðnin er Spa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14089.83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3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munur þessara tveggja er shif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170 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K sýnir Mark </a:t>
            </a:r>
            <a:r>
              <a:rPr b="0" i="1" lang="en-GB" sz="2000" spc="-1" strike="noStrike">
                <a:solidFill>
                  <a:srgbClr val="ff6600"/>
                </a:solidFill>
                <a:latin typeface="Arial"/>
              </a:rPr>
              <a:t>(14090.0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SK sýnir deyfða burðarbylgju sem er breytileg á milli hljóðtóna og þess hliðarbands sem er nota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yrir Mark tón sem er 2125 Hz (Space tón sem er 2295 H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SB</a:t>
            </a:r>
            <a:r>
              <a:rPr b="0" lang="en-GB" sz="19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GB" sz="1900" spc="-1" strike="noStrike">
                <a:solidFill>
                  <a:srgbClr val="ff6600"/>
                </a:solidFill>
                <a:latin typeface="Arial"/>
              </a:rPr>
              <a:t>(14092.125 kHz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B – Mark &amp; Space tónum snúið við </a:t>
            </a:r>
            <a:r>
              <a:rPr b="0" i="1" lang="en-GB" sz="1900" spc="-1" strike="noStrike">
                <a:solidFill>
                  <a:srgbClr val="ff6600"/>
                </a:solidFill>
                <a:latin typeface="Arial"/>
              </a:rPr>
              <a:t>(14087.005 kHz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EE66-B847-4A2F-8D35-0E3322F740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FSK vs. FS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976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 lykl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einsog CW lyk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tíma” stöð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TY (þröngar) sí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skjár = Mark tíð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FSK lyklunarkap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ur notað lágtó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ngin stilling á hljóð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ngin þörf á að taka hljóðþjöppun a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ngin röng hljóð lyk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Færri fen að falla 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576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Óbein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ónar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Hljóðnemateng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ver SSB stö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eldri stöðv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B (víðar) sí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skjár = deyfð burðarbylg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jóðkapla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sama og PSK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ður að nota hærri tó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NET </a:t>
            </a:r>
            <a:r>
              <a:rPr b="0" i="1" lang="en-US" sz="1400" spc="-1" strike="noStrike">
                <a:solidFill>
                  <a:srgbClr val="666699"/>
                </a:solidFill>
                <a:latin typeface="Arial"/>
              </a:rPr>
              <a:t>(sjálfvirk sendi-tóna stý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uðveldara að teng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664-DC0E-424A-BA9B-A44309ED74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AFSK vs. FSK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8" name="Picture 8" descr="2010qu9alleuna"/>
          <p:cNvPicPr/>
          <p:nvPr/>
        </p:nvPicPr>
        <p:blipFill>
          <a:blip r:embed="rId1"/>
          <a:stretch/>
        </p:blipFill>
        <p:spPr>
          <a:xfrm>
            <a:off x="1619280" y="2057400"/>
            <a:ext cx="5905440" cy="28954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1731240" y="5170320"/>
            <a:ext cx="529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iri nota FSK en AFSK í dag, eftir að FS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kom fyrst í stöðvum, um 199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3E21-A895-412D-B100-44C7A6533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yfirlit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ækið vélbúnað og/eða hugbúnað til að umbreyta texta og RTTY merkin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Y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send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kóð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Y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móttök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fkóða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jið upp kóðara/afkóða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gið saman kóðara/afkóðara við logg forriti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Arial"/>
              </a:rPr>
              <a:t>Afgangur stöðvar-uppsetningarinnar er sá hinn sami og fyrir CW og SS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583-29B7-42F4-BA6D-C714383886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Ótrúlegur vöxtur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úverandi keppend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374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jölbreytnin</a:t>
            </a:r>
            <a:br>
              <a:rPr sz="20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þriðja mótun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374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2R æfingahlutinn</a:t>
            </a:r>
            <a:br>
              <a:rPr sz="20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engin kóðun af notan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ýir keppend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374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ölvutengt</a:t>
            </a:r>
            <a:br>
              <a:rPr sz="20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sæmileg hæfn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kni á böndu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374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X-leiðangrar</a:t>
            </a:r>
            <a:br>
              <a:rPr sz="20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5-10% af samböndu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 svo ga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648320" y="1720800"/>
          <a:ext cx="403848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20800"/>
                    <a:ext cx="40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5"/>
          <p:cNvGraphicFramePr/>
          <p:nvPr/>
        </p:nvGraphicFramePr>
        <p:xfrm>
          <a:off x="4648320" y="3886200"/>
          <a:ext cx="4038480" cy="21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86200"/>
                    <a:ext cx="40384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C9E-2527-4A40-BD1D-92B32065B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TTY kóðari/afkóðari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TY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send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óðari breytir innslegnum stöfum (eða skilaboðum) í tvær RTTY tíð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ent CW er breytt frá texta frá heila/hönd með aðstoð lykils og/eða ly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ent SSB er breytt frá texta með heila/munni í gegnum hljóðnem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CW hugbúnaðar-lyklar og SSB “páfagaukar” eru einnig notaðir, svipað og RTTY kóðar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TY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móttök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kóðarar breyta yfir í læsilegan texta frá tveimur RTTY tíðn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CW og SSB hljóðum er breytt í læsilegan texta með eyrum/heila/höndum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cccc66"/>
                </a:solidFill>
                <a:latin typeface="Arial"/>
              </a:rPr>
              <a:t>(CW afkóðarar eru einnig til, svipaðir RTTY afkóðurum, en sjaldan notað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75B-E61A-4299-8FB3-C2BCAAD896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kóðara/afkóðara hugtö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TY </a:t>
            </a: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send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óðarinn og </a:t>
            </a:r>
            <a:r>
              <a:rPr b="1" i="1" lang="en-US" sz="3000" spc="-1" strike="noStrike">
                <a:solidFill>
                  <a:srgbClr val="ff3300"/>
                </a:solidFill>
                <a:latin typeface="Arial"/>
              </a:rPr>
              <a:t>móttök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fkóðarinn eru stundum nefndir MO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M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lat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u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2C6-7B31-4996-87E9-6E38198998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ODEM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42" name="Diagram 20"/>
          <p:cNvGrpSpPr/>
          <p:nvPr/>
        </p:nvGrpSpPr>
        <p:grpSpPr>
          <a:xfrm>
            <a:off x="3346560" y="1752480"/>
            <a:ext cx="2503440" cy="4102200"/>
            <a:chOff x="3346560" y="1752480"/>
            <a:chExt cx="2503440" cy="4102200"/>
          </a:xfrm>
        </p:grpSpPr>
        <p:sp>
          <p:nvSpPr>
            <p:cNvPr id="243" name="Rectangle 22"/>
            <p:cNvSpPr/>
            <p:nvPr/>
          </p:nvSpPr>
          <p:spPr>
            <a:xfrm>
              <a:off x="3717720" y="245736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23"/>
            <p:cNvSpPr/>
            <p:nvPr/>
          </p:nvSpPr>
          <p:spPr>
            <a:xfrm>
              <a:off x="3717720" y="489744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3984480" y="1752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FS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>
              <a:off x="4076640" y="4516560"/>
              <a:ext cx="990720" cy="6094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3346560" y="3294000"/>
              <a:ext cx="838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7"/>
            <p:cNvSpPr/>
            <p:nvPr/>
          </p:nvSpPr>
          <p:spPr>
            <a:xfrm>
              <a:off x="3489120" y="421164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28"/>
            <p:cNvSpPr/>
            <p:nvPr/>
          </p:nvSpPr>
          <p:spPr>
            <a:xfrm>
              <a:off x="4914720" y="3371760"/>
              <a:ext cx="504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29"/>
            <p:cNvSpPr/>
            <p:nvPr/>
          </p:nvSpPr>
          <p:spPr>
            <a:xfrm>
              <a:off x="5011560" y="328284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in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30"/>
            <p:cNvSpPr/>
            <p:nvPr/>
          </p:nvSpPr>
          <p:spPr>
            <a:xfrm>
              <a:off x="4227480" y="3373560"/>
              <a:ext cx="4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4937040" y="421164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32"/>
            <p:cNvSpPr/>
            <p:nvPr/>
          </p:nvSpPr>
          <p:spPr>
            <a:xfrm>
              <a:off x="402264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33"/>
            <p:cNvSpPr/>
            <p:nvPr/>
          </p:nvSpPr>
          <p:spPr>
            <a:xfrm>
              <a:off x="471960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34"/>
            <p:cNvSpPr/>
            <p:nvPr/>
          </p:nvSpPr>
          <p:spPr>
            <a:xfrm>
              <a:off x="3711600" y="5549760"/>
              <a:ext cx="167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inal Emul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7766-00AF-4B85-A8DA-6C6E85C17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ODEM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8" name="Diagram 36"/>
          <p:cNvGrpSpPr/>
          <p:nvPr/>
        </p:nvGrpSpPr>
        <p:grpSpPr>
          <a:xfrm>
            <a:off x="5480280" y="1753920"/>
            <a:ext cx="2450880" cy="4101840"/>
            <a:chOff x="5480280" y="1753920"/>
            <a:chExt cx="2450880" cy="4101840"/>
          </a:xfrm>
        </p:grpSpPr>
        <p:sp>
          <p:nvSpPr>
            <p:cNvPr id="259" name="Rectangle 38"/>
            <p:cNvSpPr/>
            <p:nvPr/>
          </p:nvSpPr>
          <p:spPr>
            <a:xfrm>
              <a:off x="5829480" y="2458800"/>
              <a:ext cx="1676520" cy="91404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5829480" y="4898880"/>
              <a:ext cx="1676520" cy="91404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40"/>
            <p:cNvSpPr/>
            <p:nvPr/>
          </p:nvSpPr>
          <p:spPr>
            <a:xfrm>
              <a:off x="6096240" y="1753920"/>
              <a:ext cx="1143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S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41"/>
            <p:cNvSpPr/>
            <p:nvPr/>
          </p:nvSpPr>
          <p:spPr>
            <a:xfrm>
              <a:off x="6172200" y="4516200"/>
              <a:ext cx="990720" cy="6094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42"/>
            <p:cNvSpPr/>
            <p:nvPr/>
          </p:nvSpPr>
          <p:spPr>
            <a:xfrm>
              <a:off x="5480280" y="328428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44"/>
            <p:cNvSpPr/>
            <p:nvPr/>
          </p:nvSpPr>
          <p:spPr>
            <a:xfrm>
              <a:off x="5621400" y="4211640"/>
              <a:ext cx="8380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46"/>
            <p:cNvSpPr/>
            <p:nvPr/>
          </p:nvSpPr>
          <p:spPr>
            <a:xfrm>
              <a:off x="7005600" y="3373200"/>
              <a:ext cx="792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48"/>
            <p:cNvSpPr/>
            <p:nvPr/>
          </p:nvSpPr>
          <p:spPr>
            <a:xfrm>
              <a:off x="7048800" y="329544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SK in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9"/>
            <p:cNvSpPr/>
            <p:nvPr/>
          </p:nvSpPr>
          <p:spPr>
            <a:xfrm>
              <a:off x="6343920" y="3373200"/>
              <a:ext cx="468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50"/>
            <p:cNvSpPr/>
            <p:nvPr/>
          </p:nvSpPr>
          <p:spPr>
            <a:xfrm>
              <a:off x="6143760" y="314460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51"/>
            <p:cNvSpPr/>
            <p:nvPr/>
          </p:nvSpPr>
          <p:spPr>
            <a:xfrm>
              <a:off x="6820200" y="314460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52"/>
            <p:cNvSpPr/>
            <p:nvPr/>
          </p:nvSpPr>
          <p:spPr>
            <a:xfrm>
              <a:off x="5829480" y="555120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inal Emul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70"/>
            <p:cNvSpPr/>
            <p:nvPr/>
          </p:nvSpPr>
          <p:spPr>
            <a:xfrm>
              <a:off x="7093080" y="422244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SK out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Diagram 54"/>
          <p:cNvGrpSpPr/>
          <p:nvPr/>
        </p:nvGrpSpPr>
        <p:grpSpPr>
          <a:xfrm>
            <a:off x="1261800" y="1752480"/>
            <a:ext cx="2492640" cy="4102200"/>
            <a:chOff x="1261800" y="1752480"/>
            <a:chExt cx="2492640" cy="4102200"/>
          </a:xfrm>
        </p:grpSpPr>
        <p:sp>
          <p:nvSpPr>
            <p:cNvPr id="273" name="Rectangle 56"/>
            <p:cNvSpPr/>
            <p:nvPr/>
          </p:nvSpPr>
          <p:spPr>
            <a:xfrm>
              <a:off x="1638360" y="2457360"/>
              <a:ext cx="167616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57"/>
            <p:cNvSpPr/>
            <p:nvPr/>
          </p:nvSpPr>
          <p:spPr>
            <a:xfrm>
              <a:off x="1638360" y="4897440"/>
              <a:ext cx="167616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58"/>
            <p:cNvSpPr/>
            <p:nvPr/>
          </p:nvSpPr>
          <p:spPr>
            <a:xfrm>
              <a:off x="1888920" y="1752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FS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59"/>
            <p:cNvSpPr/>
            <p:nvPr/>
          </p:nvSpPr>
          <p:spPr>
            <a:xfrm>
              <a:off x="1981080" y="4516560"/>
              <a:ext cx="990720" cy="6094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60"/>
            <p:cNvSpPr/>
            <p:nvPr/>
          </p:nvSpPr>
          <p:spPr>
            <a:xfrm>
              <a:off x="1261800" y="329400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61"/>
            <p:cNvSpPr/>
            <p:nvPr/>
          </p:nvSpPr>
          <p:spPr>
            <a:xfrm>
              <a:off x="1393560" y="421164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62"/>
            <p:cNvSpPr/>
            <p:nvPr/>
          </p:nvSpPr>
          <p:spPr>
            <a:xfrm>
              <a:off x="2819160" y="3371760"/>
              <a:ext cx="504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63"/>
            <p:cNvSpPr/>
            <p:nvPr/>
          </p:nvSpPr>
          <p:spPr>
            <a:xfrm>
              <a:off x="2916000" y="328284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in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64"/>
            <p:cNvSpPr/>
            <p:nvPr/>
          </p:nvSpPr>
          <p:spPr>
            <a:xfrm>
              <a:off x="2131920" y="3373560"/>
              <a:ext cx="4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65"/>
            <p:cNvSpPr/>
            <p:nvPr/>
          </p:nvSpPr>
          <p:spPr>
            <a:xfrm>
              <a:off x="2808000" y="421164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66"/>
            <p:cNvSpPr/>
            <p:nvPr/>
          </p:nvSpPr>
          <p:spPr>
            <a:xfrm>
              <a:off x="192708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67"/>
            <p:cNvSpPr/>
            <p:nvPr/>
          </p:nvSpPr>
          <p:spPr>
            <a:xfrm>
              <a:off x="262404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68"/>
            <p:cNvSpPr/>
            <p:nvPr/>
          </p:nvSpPr>
          <p:spPr>
            <a:xfrm>
              <a:off x="1616040" y="5549760"/>
              <a:ext cx="167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inal Emul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831-D728-477C-9BAE-1419646EB2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 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ODEM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Picture 9" descr="dxp38"/>
          <p:cNvPicPr/>
          <p:nvPr/>
        </p:nvPicPr>
        <p:blipFill>
          <a:blip r:embed="rId1"/>
          <a:stretch/>
        </p:blipFill>
        <p:spPr>
          <a:xfrm>
            <a:off x="571680" y="1779480"/>
            <a:ext cx="380988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PK-232DSP"/>
          <p:cNvPicPr/>
          <p:nvPr/>
        </p:nvPicPr>
        <p:blipFill>
          <a:blip r:embed="rId2"/>
          <a:stretch/>
        </p:blipFill>
        <p:spPr>
          <a:xfrm>
            <a:off x="4711680" y="1906560"/>
            <a:ext cx="3911760" cy="1752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kamxl_f"/>
          <p:cNvPicPr/>
          <p:nvPr/>
        </p:nvPicPr>
        <p:blipFill>
          <a:blip r:embed="rId3"/>
          <a:stretch/>
        </p:blipFill>
        <p:spPr>
          <a:xfrm>
            <a:off x="457200" y="454356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pic-3040-big"/>
          <p:cNvPicPr/>
          <p:nvPr/>
        </p:nvPicPr>
        <p:blipFill>
          <a:blip r:embed="rId4"/>
          <a:stretch/>
        </p:blipFill>
        <p:spPr>
          <a:xfrm>
            <a:off x="4648320" y="4402080"/>
            <a:ext cx="40384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055-1D2C-4516-89EC-4154E129EA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ljóðkort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4" name="Diagram 92"/>
          <p:cNvGrpSpPr/>
          <p:nvPr/>
        </p:nvGrpSpPr>
        <p:grpSpPr>
          <a:xfrm>
            <a:off x="1251000" y="1752480"/>
            <a:ext cx="2503440" cy="4102200"/>
            <a:chOff x="1251000" y="1752480"/>
            <a:chExt cx="2503440" cy="4102200"/>
          </a:xfrm>
        </p:grpSpPr>
        <p:sp>
          <p:nvSpPr>
            <p:cNvPr id="295" name="Rectangle 94"/>
            <p:cNvSpPr/>
            <p:nvPr/>
          </p:nvSpPr>
          <p:spPr>
            <a:xfrm>
              <a:off x="1622160" y="245736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95"/>
            <p:cNvSpPr/>
            <p:nvPr/>
          </p:nvSpPr>
          <p:spPr>
            <a:xfrm>
              <a:off x="1622160" y="489744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96"/>
            <p:cNvSpPr/>
            <p:nvPr/>
          </p:nvSpPr>
          <p:spPr>
            <a:xfrm>
              <a:off x="1888920" y="1752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FS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1981080" y="4516560"/>
              <a:ext cx="990720" cy="6094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undc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1251000" y="3294000"/>
              <a:ext cx="838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>
              <a:off x="1393560" y="421164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0"/>
            <p:cNvSpPr/>
            <p:nvPr/>
          </p:nvSpPr>
          <p:spPr>
            <a:xfrm>
              <a:off x="2819160" y="3371760"/>
              <a:ext cx="504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>
              <a:off x="2916000" y="328284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in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02"/>
            <p:cNvSpPr/>
            <p:nvPr/>
          </p:nvSpPr>
          <p:spPr>
            <a:xfrm>
              <a:off x="2131920" y="3373560"/>
              <a:ext cx="4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>
              <a:off x="2841480" y="421164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>
              <a:off x="192708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>
              <a:off x="262404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>
              <a:off x="1616040" y="5549760"/>
              <a:ext cx="167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TY decoder/enco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Diagram 107"/>
          <p:cNvGrpSpPr/>
          <p:nvPr/>
        </p:nvGrpSpPr>
        <p:grpSpPr>
          <a:xfrm>
            <a:off x="5246640" y="1752480"/>
            <a:ext cx="3017880" cy="4102200"/>
            <a:chOff x="5246640" y="1752480"/>
            <a:chExt cx="3017880" cy="4102200"/>
          </a:xfrm>
        </p:grpSpPr>
        <p:sp>
          <p:nvSpPr>
            <p:cNvPr id="309" name="Rectangle 109"/>
            <p:cNvSpPr/>
            <p:nvPr/>
          </p:nvSpPr>
          <p:spPr>
            <a:xfrm>
              <a:off x="5829480" y="245736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10"/>
            <p:cNvSpPr/>
            <p:nvPr/>
          </p:nvSpPr>
          <p:spPr>
            <a:xfrm>
              <a:off x="5829480" y="4897440"/>
              <a:ext cx="1676520" cy="914400"/>
            </a:xfrm>
            <a:prstGeom prst="rect">
              <a:avLst/>
            </a:prstGeom>
            <a:solidFill>
              <a:srgbClr val="cc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1"/>
            <p:cNvSpPr/>
            <p:nvPr/>
          </p:nvSpPr>
          <p:spPr>
            <a:xfrm>
              <a:off x="6096240" y="1752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S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12"/>
            <p:cNvSpPr/>
            <p:nvPr/>
          </p:nvSpPr>
          <p:spPr>
            <a:xfrm>
              <a:off x="5639040" y="4514760"/>
              <a:ext cx="990360" cy="60984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undc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13"/>
            <p:cNvSpPr/>
            <p:nvPr/>
          </p:nvSpPr>
          <p:spPr>
            <a:xfrm>
              <a:off x="5246640" y="328284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dio o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14"/>
            <p:cNvSpPr/>
            <p:nvPr/>
          </p:nvSpPr>
          <p:spPr>
            <a:xfrm>
              <a:off x="6597720" y="3828960"/>
              <a:ext cx="1271520" cy="59220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SK &amp; PT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ying ca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15"/>
            <p:cNvSpPr/>
            <p:nvPr/>
          </p:nvSpPr>
          <p:spPr>
            <a:xfrm>
              <a:off x="5388120" y="42102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e 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16"/>
            <p:cNvSpPr/>
            <p:nvPr/>
          </p:nvSpPr>
          <p:spPr>
            <a:xfrm>
              <a:off x="7237440" y="442764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17"/>
            <p:cNvSpPr/>
            <p:nvPr/>
          </p:nvSpPr>
          <p:spPr>
            <a:xfrm>
              <a:off x="7372440" y="337176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18"/>
            <p:cNvSpPr/>
            <p:nvPr/>
          </p:nvSpPr>
          <p:spPr>
            <a:xfrm>
              <a:off x="7272360" y="460368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ial 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119"/>
            <p:cNvSpPr/>
            <p:nvPr/>
          </p:nvSpPr>
          <p:spPr>
            <a:xfrm>
              <a:off x="7426440" y="3282840"/>
              <a:ext cx="838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SK inpu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0"/>
            <p:cNvSpPr/>
            <p:nvPr/>
          </p:nvSpPr>
          <p:spPr>
            <a:xfrm>
              <a:off x="6132600" y="3371760"/>
              <a:ext cx="4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121"/>
            <p:cNvSpPr/>
            <p:nvPr/>
          </p:nvSpPr>
          <p:spPr>
            <a:xfrm>
              <a:off x="5943600" y="314316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122"/>
            <p:cNvSpPr/>
            <p:nvPr/>
          </p:nvSpPr>
          <p:spPr>
            <a:xfrm>
              <a:off x="7042320" y="3143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123"/>
            <p:cNvSpPr/>
            <p:nvPr/>
          </p:nvSpPr>
          <p:spPr>
            <a:xfrm>
              <a:off x="5824800" y="5549760"/>
              <a:ext cx="167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TY decoder/enco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24"/>
            <p:cNvSpPr/>
            <p:nvPr/>
          </p:nvSpPr>
          <p:spPr>
            <a:xfrm>
              <a:off x="7086600" y="337176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25"/>
            <p:cNvSpPr/>
            <p:nvPr/>
          </p:nvSpPr>
          <p:spPr>
            <a:xfrm>
              <a:off x="6594480" y="3282840"/>
              <a:ext cx="533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F002-E357-415A-B441-F1790D0C9F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afkóðara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28" name="Picture 8" descr="2010qu2all"/>
          <p:cNvPicPr/>
          <p:nvPr/>
        </p:nvPicPr>
        <p:blipFill>
          <a:blip r:embed="rId1"/>
          <a:stretch/>
        </p:blipFill>
        <p:spPr>
          <a:xfrm>
            <a:off x="1609560" y="1981080"/>
            <a:ext cx="5924880" cy="29242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2197800" y="5116680"/>
            <a:ext cx="49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% nota hljóðkort fyrir afkóðun/kóð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% af hljóðkortanotendum nota MMT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2E8-7B5D-4AB0-8C40-4A350F776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MTTY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32" name="Picture 10" descr="w0yk mmtty 9X0R"/>
          <p:cNvPicPr/>
          <p:nvPr/>
        </p:nvPicPr>
        <p:blipFill>
          <a:blip r:embed="rId1"/>
          <a:stretch/>
        </p:blipFill>
        <p:spPr>
          <a:xfrm>
            <a:off x="1814400" y="1719360"/>
            <a:ext cx="5515200" cy="44114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5"/>
          <p:cNvSpPr/>
          <p:nvPr/>
        </p:nvSpPr>
        <p:spPr>
          <a:xfrm>
            <a:off x="160560" y="17812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fa UOS 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1589040" y="2081160"/>
            <a:ext cx="3175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65520" y="286380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ökkva 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8"/>
          <p:cNvSpPr/>
          <p:nvPr/>
        </p:nvSpPr>
        <p:spPr>
          <a:xfrm flipV="1">
            <a:off x="1644480" y="2808000"/>
            <a:ext cx="1959120" cy="2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9"/>
          <p:cNvSpPr/>
          <p:nvPr/>
        </p:nvSpPr>
        <p:spPr>
          <a:xfrm flipV="1">
            <a:off x="1676520" y="2819160"/>
            <a:ext cx="2209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2117520" y="121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el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1"/>
          <p:cNvSpPr/>
          <p:nvPr/>
        </p:nvSpPr>
        <p:spPr>
          <a:xfrm>
            <a:off x="3051000" y="1465200"/>
            <a:ext cx="3747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476480" y="20574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ki sm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é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23"/>
          <p:cNvSpPr/>
          <p:nvPr/>
        </p:nvSpPr>
        <p:spPr>
          <a:xfrm flipH="1">
            <a:off x="7314840" y="2286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26"/>
          <p:cNvSpPr/>
          <p:nvPr/>
        </p:nvSpPr>
        <p:spPr>
          <a:xfrm>
            <a:off x="7467480" y="3657600"/>
            <a:ext cx="1371600" cy="609480"/>
          </a:xfrm>
          <a:prstGeom prst="wedgeEllipseCallout">
            <a:avLst>
              <a:gd name="adj1" fmla="val -75000"/>
              <a:gd name="adj2" fmla="val 72134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óttekinn tex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27"/>
          <p:cNvSpPr/>
          <p:nvPr/>
        </p:nvSpPr>
        <p:spPr>
          <a:xfrm>
            <a:off x="7467480" y="5181480"/>
            <a:ext cx="1447920" cy="609840"/>
          </a:xfrm>
          <a:prstGeom prst="wedgeEllipseCallout">
            <a:avLst>
              <a:gd name="adj1" fmla="val -73685"/>
              <a:gd name="adj2" fmla="val 72134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ndur tex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5709240" y="12193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aboð (makró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 flipH="1">
            <a:off x="4792680" y="1454040"/>
            <a:ext cx="93672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6FE-D85E-4077-BDFA-CB0AA3A7D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MTTY Valkosti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1519200" y="1360440"/>
            <a:ext cx="6105600" cy="45831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83160" y="242244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jóðkort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in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 flipV="1">
            <a:off x="1143000" y="190476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48960" y="42512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T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set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 flipV="1">
            <a:off x="1150920" y="3581280"/>
            <a:ext cx="1363680" cy="72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C66-F12C-488E-B0B7-77644207D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MMTTY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kostir/Uppsetning/Afmótari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28600" y="3063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ing tó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1"/>
          <a:stretch/>
        </p:blipFill>
        <p:spPr>
          <a:xfrm>
            <a:off x="1770120" y="1406520"/>
            <a:ext cx="560376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Line 6"/>
          <p:cNvSpPr/>
          <p:nvPr/>
        </p:nvSpPr>
        <p:spPr>
          <a:xfrm flipV="1">
            <a:off x="1379520" y="3092400"/>
            <a:ext cx="638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1387440" y="3300480"/>
            <a:ext cx="1708200" cy="12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294-6842-41CF-8FB2-EF29446824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keppendu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727360" y="5006880"/>
            <a:ext cx="39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25 þátttakendur; 13 spurnin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t í Febrúar 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2010makeup"/>
          <p:cNvPicPr/>
          <p:nvPr/>
        </p:nvPicPr>
        <p:blipFill>
          <a:blip r:embed="rId1"/>
          <a:stretch/>
        </p:blipFill>
        <p:spPr>
          <a:xfrm>
            <a:off x="1623960" y="1905120"/>
            <a:ext cx="58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3D7-9468-46DB-B403-3FC1FE724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MMTTY Valkostir/Uppsetning/TX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76320" y="1387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fa UOS 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7468200" y="24112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SK/PT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17" descr=""/>
          <p:cNvPicPr/>
          <p:nvPr/>
        </p:nvPicPr>
        <p:blipFill>
          <a:blip r:embed="rId1"/>
          <a:stretch/>
        </p:blipFill>
        <p:spPr>
          <a:xfrm>
            <a:off x="1770120" y="1406520"/>
            <a:ext cx="5603760" cy="4680000"/>
          </a:xfrm>
          <a:prstGeom prst="rect">
            <a:avLst/>
          </a:prstGeom>
          <a:ln w="0">
            <a:noFill/>
          </a:ln>
        </p:spPr>
      </p:pic>
      <p:sp>
        <p:nvSpPr>
          <p:cNvPr id="364" name="Line 5"/>
          <p:cNvSpPr/>
          <p:nvPr/>
        </p:nvSpPr>
        <p:spPr>
          <a:xfrm>
            <a:off x="1671480" y="1644480"/>
            <a:ext cx="129384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 flipH="1" flipV="1">
            <a:off x="7134120" y="2325240"/>
            <a:ext cx="424080" cy="2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237960" y="28875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ja LT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9"/>
          <p:cNvSpPr/>
          <p:nvPr/>
        </p:nvSpPr>
        <p:spPr>
          <a:xfrm flipV="1">
            <a:off x="1638360" y="2692440"/>
            <a:ext cx="37944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7427520" y="301608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jóðk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Line Out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1"/>
          <p:cNvSpPr/>
          <p:nvPr/>
        </p:nvSpPr>
        <p:spPr>
          <a:xfrm flipH="1" flipV="1">
            <a:off x="5664240" y="2439720"/>
            <a:ext cx="1846080" cy="74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09D-0AA1-45FE-894D-FA1197802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MTTY Valmöguleikar/Uppsetning/Hitt og Þetta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7468920" y="23972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1770120" y="1406520"/>
            <a:ext cx="5603760" cy="4680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8"/>
          <p:cNvSpPr/>
          <p:nvPr/>
        </p:nvSpPr>
        <p:spPr>
          <a:xfrm>
            <a:off x="7468920" y="3554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 flipH="1">
            <a:off x="5829480" y="2590920"/>
            <a:ext cx="169848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 flipH="1" flipV="1">
            <a:off x="6378480" y="3349440"/>
            <a:ext cx="114480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457200" y="293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jóðk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619280" y="3132000"/>
            <a:ext cx="34128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376-8160-44AC-B824-0A9A68BA5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MMTTY Valmöguleikar/Uppsetning/Hljóðkort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89280" y="288144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jið móttök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jóðk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0" descr=""/>
          <p:cNvPicPr/>
          <p:nvPr/>
        </p:nvPicPr>
        <p:blipFill>
          <a:blip r:embed="rId1"/>
          <a:stretch/>
        </p:blipFill>
        <p:spPr>
          <a:xfrm>
            <a:off x="1771560" y="1411200"/>
            <a:ext cx="5600880" cy="4678560"/>
          </a:xfrm>
          <a:prstGeom prst="rect">
            <a:avLst/>
          </a:prstGeom>
          <a:ln w="0">
            <a:noFill/>
          </a:ln>
        </p:spPr>
      </p:pic>
      <p:sp>
        <p:nvSpPr>
          <p:cNvPr id="383" name="Line 9"/>
          <p:cNvSpPr/>
          <p:nvPr/>
        </p:nvSpPr>
        <p:spPr>
          <a:xfrm flipV="1">
            <a:off x="1243080" y="2289240"/>
            <a:ext cx="70488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7418520" y="2973240"/>
            <a:ext cx="166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jið send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jóðk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ðeins AFS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 flipH="1" flipV="1">
            <a:off x="6530760" y="2320920"/>
            <a:ext cx="12286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6F69-3F12-49C8-9F3C-8ACD8545E4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MTTY userpara.ini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userpara.in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kráin (í MMTTY forrita möppunni) geymir staðlaðar uppsetnin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Þar eru hlutar fyrir hvert snið, t.d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fine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=Standard RT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Í hverju sniði verið vissir um a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 og AFC eru af (of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OS og Tx UOS eru á (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Önnur atriði eru sett upp þannig að ekki þurfi að breyta í hvert skipti sem þú ræsir MMTTY eða í snið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AE9-9DF6-425C-85D2-45129EE27C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ljóðkorts stillinga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t í Windows Hljóðstillingum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eða, í MMTTY </a:t>
            </a:r>
            <a:r>
              <a:rPr b="1" i="1" lang="en-US" sz="2600" spc="-1" strike="noStrike">
                <a:solidFill>
                  <a:srgbClr val="cc9900"/>
                </a:solidFill>
                <a:latin typeface="Arial"/>
              </a:rPr>
              <a:t>Options/Soundcar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ð einangrunar spen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ðist yfirstýringu (over-dri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ökkvið á öðrum inn- og úttengj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X audio fer í LINE IN (eða, 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ð milliteng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9900"/>
                </a:solidFill>
                <a:latin typeface="Arial"/>
              </a:rPr>
              <a:t>Options/Soundcard input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X AFSK audio (mic) er frá LIN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9900"/>
                </a:solidFill>
                <a:latin typeface="Arial"/>
              </a:rPr>
              <a:t>Options/Soundcard output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ökkvið á raddþjöpp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BA3-7806-46FD-83DE-21EDDFAF1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ljóðeinangr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ðist jarð-lúppur &amp; suð, sérstaklega við töl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:1 hljóðspen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X ú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X hljóðnema in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FSK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/S 273-1374 spenni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imasmíðaður kap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2IHY i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lbúin RTTY tengibox (interf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8DBC-3530-49F2-8538-CEF91B4FA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eimasmíðuð hljóðeinangr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97" name="Picture 12" descr="RS 273-1374"/>
          <p:cNvPicPr/>
          <p:nvPr/>
        </p:nvPicPr>
        <p:blipFill>
          <a:blip r:embed="rId1"/>
          <a:stretch/>
        </p:blipFill>
        <p:spPr>
          <a:xfrm>
            <a:off x="1060560" y="3733920"/>
            <a:ext cx="2832120" cy="2130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RX audio cable"/>
          <p:cNvPicPr/>
          <p:nvPr/>
        </p:nvPicPr>
        <p:blipFill>
          <a:blip r:embed="rId2"/>
          <a:stretch/>
        </p:blipFill>
        <p:spPr>
          <a:xfrm>
            <a:off x="4648320" y="2405160"/>
            <a:ext cx="4038480" cy="3038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isotxfmr_rx"/>
          <p:cNvPicPr/>
          <p:nvPr/>
        </p:nvPicPr>
        <p:blipFill>
          <a:blip r:embed="rId3"/>
          <a:stretch/>
        </p:blipFill>
        <p:spPr>
          <a:xfrm>
            <a:off x="457200" y="2124000"/>
            <a:ext cx="40384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858-E4AD-4313-98F3-DBD4514774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W2IHY iBox hljóðeinangr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4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D86-CBA6-4EE7-85A1-EDFAC254B8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PTT vs. VOX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880" y="1719360"/>
            <a:ext cx="83822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737064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K notar VOX (eða PTT); FSK notar P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737064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TT me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73706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ölvustýringu með Serial COM por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73706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trof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kki mælt me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737064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Arial"/>
              </a:rPr>
              <a:t>FSK með “semi-break-in” í framtíðinn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37064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C9E-2696-4FA1-9DDF-1A71246871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FSK &amp; PTT lyklingar kapall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8" name="Picture 10" descr="FSK-PTT cable"/>
          <p:cNvPicPr/>
          <p:nvPr/>
        </p:nvPicPr>
        <p:blipFill>
          <a:blip r:embed="rId1"/>
          <a:stretch/>
        </p:blipFill>
        <p:spPr>
          <a:xfrm>
            <a:off x="457200" y="2405160"/>
            <a:ext cx="4038480" cy="3038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FSK-PTT opto"/>
          <p:cNvPicPr/>
          <p:nvPr/>
        </p:nvPicPr>
        <p:blipFill>
          <a:blip r:embed="rId2"/>
          <a:stretch/>
        </p:blipFill>
        <p:spPr>
          <a:xfrm>
            <a:off x="5253120" y="1719360"/>
            <a:ext cx="2828880" cy="212868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29"/>
          <p:cNvGrpSpPr/>
          <p:nvPr/>
        </p:nvGrpSpPr>
        <p:grpSpPr>
          <a:xfrm>
            <a:off x="5259960" y="4118040"/>
            <a:ext cx="2969640" cy="1623960"/>
            <a:chOff x="5259960" y="4118040"/>
            <a:chExt cx="2969640" cy="1623960"/>
          </a:xfrm>
        </p:grpSpPr>
        <p:pic>
          <p:nvPicPr>
            <p:cNvPr id="411" name="Picture 19" descr="fskinterface"/>
            <p:cNvPicPr/>
            <p:nvPr/>
          </p:nvPicPr>
          <p:blipFill>
            <a:blip r:embed="rId3"/>
            <a:stretch/>
          </p:blipFill>
          <p:spPr>
            <a:xfrm>
              <a:off x="5648400" y="4498920"/>
              <a:ext cx="25812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20"/>
            <p:cNvSpPr/>
            <p:nvPr/>
          </p:nvSpPr>
          <p:spPr>
            <a:xfrm>
              <a:off x="5274720" y="4118040"/>
              <a:ext cx="93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K: TXD (3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TT: RTS (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6307560" y="4124160"/>
              <a:ext cx="73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K inp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TT inp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5259960" y="5521320"/>
              <a:ext cx="69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B9 pin #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5"/>
            <p:cNvSpPr/>
            <p:nvPr/>
          </p:nvSpPr>
          <p:spPr>
            <a:xfrm>
              <a:off x="6364080" y="549576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nd (5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27"/>
            <p:cNvSpPr/>
            <p:nvPr/>
          </p:nvSpPr>
          <p:spPr>
            <a:xfrm>
              <a:off x="6988320" y="4202280"/>
              <a:ext cx="88920" cy="2556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6480 h 255600"/>
                <a:gd name="textAreaBottom" fmla="*/ 24912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79"/>
                  </a:lnTo>
                  <a:cubicBezTo>
                    <a:pt x="10800" y="9579"/>
                    <a:pt x="16200" y="10479"/>
                    <a:pt x="21600" y="10479"/>
                  </a:cubicBezTo>
                  <a:cubicBezTo>
                    <a:pt x="16200" y="10479"/>
                    <a:pt x="10800" y="11379"/>
                    <a:pt x="10800" y="1227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28"/>
            <p:cNvSpPr/>
            <p:nvPr/>
          </p:nvSpPr>
          <p:spPr>
            <a:xfrm>
              <a:off x="7021440" y="4191120"/>
              <a:ext cx="63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 ra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A130-0B5D-45F4-AE3C-3405B65762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Fjöldi af RTTY keppnum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Þær stó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L RTTY Roundup (1. helgi í Janú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G (3. helgi í Jan, 3. helgi í  M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 Baud (Apríl &amp; Sept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Q WPX RTTY (2. helgi í Febrú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Q WW RTTY (síðustu helgi í Sept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E RTTY (2. helgi í Nóv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CJ (National Contest Journal) keppni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QP RTTY (3. laugard. í Febrúar, 2. laugard. í Jú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rint RTTY (2. laugard. í Mars &amp; Októb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ðrar vinsælar RTTY keppni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RTS, Makrothen, SARTG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 að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CDD-5BC6-41D5-A84A-A4CFB9E1CE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tilbúin tengibox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0" name="Picture 13" descr="RASCAL"/>
          <p:cNvPicPr/>
          <p:nvPr/>
        </p:nvPicPr>
        <p:blipFill>
          <a:blip r:embed="rId1"/>
          <a:stretch/>
        </p:blipFill>
        <p:spPr>
          <a:xfrm>
            <a:off x="541440" y="1719360"/>
            <a:ext cx="1135080" cy="2128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3" descr="RIGblaster 3"/>
          <p:cNvPicPr/>
          <p:nvPr/>
        </p:nvPicPr>
        <p:blipFill>
          <a:blip r:embed="rId2"/>
          <a:stretch/>
        </p:blipFill>
        <p:spPr>
          <a:xfrm>
            <a:off x="2573280" y="1719360"/>
            <a:ext cx="3065400" cy="2128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4" descr="SignaLink"/>
          <p:cNvPicPr/>
          <p:nvPr/>
        </p:nvPicPr>
        <p:blipFill>
          <a:blip r:embed="rId3"/>
          <a:stretch/>
        </p:blipFill>
        <p:spPr>
          <a:xfrm>
            <a:off x="6019920" y="1981080"/>
            <a:ext cx="2857320" cy="1562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MFJ-1279"/>
          <p:cNvPicPr/>
          <p:nvPr/>
        </p:nvPicPr>
        <p:blipFill>
          <a:blip r:embed="rId4"/>
          <a:stretch/>
        </p:blipFill>
        <p:spPr>
          <a:xfrm>
            <a:off x="4648320" y="4070520"/>
            <a:ext cx="4038480" cy="19890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26"/>
          <p:cNvSpPr/>
          <p:nvPr/>
        </p:nvSpPr>
        <p:spPr>
          <a:xfrm>
            <a:off x="1143000" y="1568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S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28" descr="img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419720"/>
            <a:ext cx="3333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573-8F21-4BEC-8EB9-99DE341348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icroHAM tengiboxi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8" name="Picture 4" descr="MK2R_2 w4tv"/>
          <p:cNvPicPr/>
          <p:nvPr/>
        </p:nvPicPr>
        <p:blipFill>
          <a:blip r:embed="rId1"/>
          <a:stretch/>
        </p:blipFill>
        <p:spPr>
          <a:xfrm>
            <a:off x="4572000" y="4038480"/>
            <a:ext cx="4038480" cy="11052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4" descr="mr2"/>
          <p:cNvPicPr/>
          <p:nvPr/>
        </p:nvPicPr>
        <p:blipFill>
          <a:blip r:embed="rId2"/>
          <a:stretch/>
        </p:blipFill>
        <p:spPr>
          <a:xfrm>
            <a:off x="650880" y="4280040"/>
            <a:ext cx="3463920" cy="750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9" descr="MKII_FRONT"/>
          <p:cNvPicPr/>
          <p:nvPr/>
        </p:nvPicPr>
        <p:blipFill>
          <a:blip r:embed="rId3"/>
          <a:stretch/>
        </p:blipFill>
        <p:spPr>
          <a:xfrm>
            <a:off x="4648320" y="2367000"/>
            <a:ext cx="3327120" cy="687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1" descr="DKII_front"/>
          <p:cNvPicPr/>
          <p:nvPr/>
        </p:nvPicPr>
        <p:blipFill>
          <a:blip r:embed="rId4"/>
          <a:stretch/>
        </p:blipFill>
        <p:spPr>
          <a:xfrm>
            <a:off x="1065240" y="2443320"/>
            <a:ext cx="2211480" cy="6048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2"/>
          <p:cNvSpPr/>
          <p:nvPr/>
        </p:nvSpPr>
        <p:spPr>
          <a:xfrm>
            <a:off x="3267360" y="18288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rir eina stö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3733920" y="3733920"/>
            <a:ext cx="14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rir SO2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B29-DD5D-4680-8735-01649371B0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tengibox, samanburðu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1760" y="1819440"/>
          <a:ext cx="8437320" cy="4017960"/>
        </p:xfrm>
        <a:graphic>
          <a:graphicData uri="http://schemas.openxmlformats.org/drawingml/2006/table">
            <a:tbl>
              <a:tblPr/>
              <a:tblGrid>
                <a:gridCol w="1884240"/>
                <a:gridCol w="1143000"/>
                <a:gridCol w="685800"/>
                <a:gridCol w="1600200"/>
                <a:gridCol w="1676520"/>
                <a:gridCol w="1447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örumerk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jó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K/PT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g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ð U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Blaster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-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L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L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0-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cal GL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 eða US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J-1275(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0(14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Blaster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0-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HA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0-4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HA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0-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Navig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arlett"/>
                          <a:ea typeface="Marlett"/>
                        </a:rPr>
                        <a:t>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97A-A52A-44D9-9661-B86B4E5B7A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móttaka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X hljóð í MODEM Audio In eða Hljóðkort Line In (eða Hljóðnema Inn með milliteng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MODEM, þ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ið þannig að suð á bandinu sé rétt fyrir neð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Hljóðkort, þ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ið á Line In (eða Hljóðnema) inn, aftengið annað (mu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ið þannig að suð á bandinu sé rétt fyrir neð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A0B-EDBF-46B3-9FFD-0203EA9A9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FS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ökkvið á raddþjöppun á stöðinn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 MODEM, þá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M hljóð út í hljóðnematengi stöðvar með milliten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ið hljóðstyrk til að ná hámarks afli ú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 MMTTY, þá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ljóðkort Line Out í hljóðnematengi stöðvar, með milliten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ið hljóðkort WAV út, afvirkið önnur ten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kið við WAV stilli og/eða hljóðnemastilli til að ná hámarksafli ú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4C35-5277-462F-ADDF-777E57EDFE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set ég upp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FS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notað er MODEM, þ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gið MODEM FSK Out í FSK In á stöðin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gið Serial (eða USB) PTT kapal í PTT input á stöði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MMTTY, þ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 ekkert Serial tengi, þá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B-Serial breytikapall (margir lykla ekki á FS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tjið upp &amp; stillið EXTFSK í MMT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gið Serial (eða USB) FSK &amp; PTT kapla í FSK &amp; PTT inn tengi stöðvarinn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8188-9E09-481E-A563-677366192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stöðva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8" name="Picture 12" descr="2010qu8all"/>
          <p:cNvPicPr/>
          <p:nvPr/>
        </p:nvPicPr>
        <p:blipFill>
          <a:blip r:embed="rId1"/>
          <a:stretch/>
        </p:blipFill>
        <p:spPr>
          <a:xfrm>
            <a:off x="1619280" y="1981080"/>
            <a:ext cx="5905440" cy="303876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3"/>
          <p:cNvSpPr/>
          <p:nvPr/>
        </p:nvSpPr>
        <p:spPr>
          <a:xfrm>
            <a:off x="2553120" y="5219640"/>
            <a:ext cx="37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om 756Pro serían vinsæl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raft K3 sækir 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2FFC-A2A3-4E2A-B11D-90F636CFF7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með uppsetningu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TTY logg hugbúnaðu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1MM Log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000; sérstaklega hannað fyrir RT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Ókey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Lo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phaflega hannað fyrir RT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W &amp; SSB kom síð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www.rttycontesting.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imasíð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-Te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003; RTTY er frekar lágt skrifa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Öll þrjú notast við MMTTY og hafa svipaða virkni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fyrir RTTY kepp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4A9-C416-4BF7-995C-35010A515D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með uppsetningu?</a:t>
            </a:r>
            <a:br>
              <a:rPr sz="43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TTY logg hugbúnaðu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7200" y="1905120"/>
          <a:ext cx="8229600" cy="2925720"/>
        </p:xfrm>
        <a:graphic>
          <a:graphicData uri="http://schemas.openxmlformats.org/drawingml/2006/table">
            <a:tbl>
              <a:tblPr/>
              <a:tblGrid>
                <a:gridCol w="3200400"/>
                <a:gridCol w="1676520"/>
                <a:gridCol w="1676160"/>
                <a:gridCol w="1676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M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Lo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-Tes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T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ðrir afkóðar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i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lmerkjastuðning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ðningur við keppni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ærr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Þróaðra RT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☻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k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476"/>
          <p:cNvSpPr/>
          <p:nvPr/>
        </p:nvSpPr>
        <p:spPr>
          <a:xfrm>
            <a:off x="525600" y="5029200"/>
            <a:ext cx="71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Öll þrjú eru nægjanleg fyrir einfaldar RTTY keppn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Notaðu logg forritið sem þú þekkir, fyrir CW &amp; SS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A0A-D81D-430A-A860-096D9A1661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RTTY Logg forrit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9" name="Picture 8" descr="2010qu1all_b"/>
          <p:cNvPicPr/>
          <p:nvPr/>
        </p:nvPicPr>
        <p:blipFill>
          <a:blip r:embed="rId1"/>
          <a:stretch/>
        </p:blipFill>
        <p:spPr>
          <a:xfrm>
            <a:off x="1614600" y="1905120"/>
            <a:ext cx="5914800" cy="29145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9"/>
          <p:cNvSpPr/>
          <p:nvPr/>
        </p:nvSpPr>
        <p:spPr>
          <a:xfrm>
            <a:off x="2795040" y="5035680"/>
            <a:ext cx="44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W er ennþá vinsælla en Win-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TTY notað sérstæ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A30D-4CCE-46E5-A2CC-52BE414416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Vinsældi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8" name="Picture 8" descr="2010qu11all"/>
          <p:cNvPicPr/>
          <p:nvPr/>
        </p:nvPicPr>
        <p:blipFill>
          <a:blip r:embed="rId1"/>
          <a:stretch/>
        </p:blipFill>
        <p:spPr>
          <a:xfrm>
            <a:off x="766800" y="1938240"/>
            <a:ext cx="7610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FBEF-5FCC-4F3B-9EA6-461BCF9E6E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Fjöldi smáatriða!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þetta er gaman??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Byrjaðu á einfaldleikanum, bættu svo vi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MTTY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ókeypi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du móttöku í gang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staðlaðar  hljóðsnúrur á milli stöðvar og tölv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du sendingu í gang; notaðu annaðhv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SK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önnur stöðluð hljóðsnúra frá stöð að tölv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K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lyklunarsnúra eða tilbúið tengibo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mtengið MMTTY við logg hugbúnaðin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mtíðar uppfærsl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jóðspennaeinangrun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mælt me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búið tengi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tíðar uppsetningar: SO2V, SO2R, nokkrir afkóðara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FB4-3009-4979-85BA-17941C6706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jög svipað og á CW og SS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yrnartóla stilli, stillt mjög lág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ðist truflu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ADBF-0331-4802-8415-3B12F9E0F5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stilling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ið RX hljóðstil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ljóð rétt fyrir ofan núlli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ð þröngar sí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W síur &lt; 500 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ærið að stilla eftir ey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æfið með lokuð aug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ist sem næst 10-2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0" descr="MMTTY mis-tuned small"/>
          <p:cNvPicPr/>
          <p:nvPr/>
        </p:nvPicPr>
        <p:blipFill>
          <a:blip r:embed="rId1"/>
          <a:stretch/>
        </p:blipFill>
        <p:spPr>
          <a:xfrm>
            <a:off x="4648320" y="1762200"/>
            <a:ext cx="4038480" cy="20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MMTTY tuned 2 small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8A3-DAB9-49A7-801D-77EA6B0A1B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IF Bandvídd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2299680" y="5164200"/>
            <a:ext cx="50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 og FSK, komu þröngar IF RTTY síu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 tækjum uppúr 198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2010qu10all"/>
          <p:cNvPicPr/>
          <p:nvPr/>
        </p:nvPicPr>
        <p:blipFill>
          <a:blip r:embed="rId1"/>
          <a:stretch/>
        </p:blipFill>
        <p:spPr>
          <a:xfrm>
            <a:off x="1619280" y="2057400"/>
            <a:ext cx="5905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412A-1E13-440B-B38D-2F963FFA7D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grunnsamban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PX K5AM K5AM C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00"/>
                </a:solidFill>
                <a:latin typeface="Arial"/>
              </a:rPr>
              <a:t>ZC4LI ZC4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ZC4LI 599 1349 13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00"/>
                </a:solidFill>
                <a:latin typeface="Arial"/>
              </a:rPr>
              <a:t>[K5AM] TU 599 985 98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[ZC4LI] TU [DE] K5AM C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5AM: stöðin sem kallar (þarna í WPX keppni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C4LI: stöðin sem leitar (S&amp;P stöð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valkvæt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17F-3BD9-4CF9-9964-05797B5959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skilaboða biðminni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tt, eins og CW/SS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r aukaupplýsin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9 (ekki 5NN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inu si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úmer tvisvar sinn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, ekki bandstr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202680" y="527220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www.rttycontesting.com/rttymessage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10" descr=""/>
          <p:cNvPicPr/>
          <p:nvPr/>
        </p:nvPicPr>
        <p:blipFill>
          <a:blip r:embed="rId2"/>
          <a:stretch/>
        </p:blipFill>
        <p:spPr>
          <a:xfrm>
            <a:off x="4648320" y="3933720"/>
            <a:ext cx="4038480" cy="2130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/>
          <p:cNvPicPr/>
          <p:nvPr/>
        </p:nvPicPr>
        <p:blipFill>
          <a:blip r:embed="rId3"/>
          <a:stretch/>
        </p:blipFill>
        <p:spPr>
          <a:xfrm>
            <a:off x="4648320" y="1719360"/>
            <a:ext cx="40384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5A6-F35D-469A-8693-B0FE9BB1E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Bilið vinnu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7" name="Picture 8" descr="2010qu12all"/>
          <p:cNvPicPr/>
          <p:nvPr/>
        </p:nvPicPr>
        <p:blipFill>
          <a:blip r:embed="rId1"/>
          <a:stretch/>
        </p:blipFill>
        <p:spPr>
          <a:xfrm>
            <a:off x="1619280" y="2471760"/>
            <a:ext cx="5905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F8D-129C-413B-B9FF-117A0A70D2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hvar?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metra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080-28100, í keppni 28060-281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 metra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080-21100, í keppni 21060-21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metra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80-14100, í keppni 14060-141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JA: 14070-14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 metra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30-7050, í keppni 7030-7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JA: 7025-70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U: mest fyrir neðan 7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 metra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80-3600, í keppni 3560-3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JA: 3520-3530 and 3599-36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60 metrar:  Engar RTTY kepp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C7B-E3BA-4AAB-9E0D-08D9CFECB2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ekki búa til QRM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ðist að vera nærri PSK-31 tíðn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8120, 21070, 14070, 7035 og 35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ðist nálægð við NCDXF radíóvit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1150 og 14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ánari upplýsingar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7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www.aa5au.com/gettingstarted/rtty_subbands.h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F70F-46D1-4F21-8F5C-87A8CD351D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keppnismanngerði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iðursmanna RTT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Y er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mótu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iðursmannsi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60 er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b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iðursmannsin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TY keppnisfíklarn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knir af reynslu margra fjölbreyttra kepp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ýir keppend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gir með mikla tölvuhæfile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jöl-mótana keppend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kill vöx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C5F-C933-4E6D-B485-2673408F9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inir neikvæðu segja…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1800" y="1719360"/>
            <a:ext cx="8420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TY afkóðarinn/kóðarinn gerir all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6600"/>
                </a:solidFill>
                <a:latin typeface="Arial"/>
              </a:rPr>
              <a:t>þrátt fyrir, þetta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ir þátttakandanum kleift að virkja aðra hæfile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nar dyr að keppni fyrir marga amatö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kur fjölbreytileika fyrir þá keppnissjú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TY er erfitt að setja upp og láta virka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0" i="1" lang="en-US" sz="2600" spc="-1" strike="noStrike">
                <a:solidFill>
                  <a:srgbClr val="ff6600"/>
                </a:solidFill>
                <a:latin typeface="Arial"/>
              </a:rPr>
              <a:t>bíddu aðeins, þetta er ekki svo erfit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7232-1E5B-4374-91B0-75CCDDF91C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vernig keppi ég?</a:t>
            </a:r>
            <a:br>
              <a:rPr sz="35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stíll keppenda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juleg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ý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Æfingastöðv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tast við heiðursskjö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95% þátttakenda … og gengur aðeins hægar hjá þe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vö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tt skor; snubbótt sambönd; ekkert óþarfa spj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5% þátttakenda … hinir hröðu (og verða fljótt argir yfir hægum þátttakendum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DFA-82CA-450F-93F0-C1635EFA3D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keppendu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A5AU könnu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1619280" y="1905120"/>
            <a:ext cx="5905440" cy="29048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1302840" y="5029200"/>
            <a:ext cx="537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utfall Venjulegra er mikið hærra en sýnt 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þar sem fáir þeirra tóku þátt í könnun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F732-D827-4542-93F2-F1853D41E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Ábending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“Allt sem ég móttek er þvæla!”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 hvolfi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íxlun á Mark &amp; Space í hugbúnað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SB vs. U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ákn vs. staf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=599, WPIR=20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-click til að breyta, eð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íkið á efstu tvær raðir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Mic/Line In, stillingar, hljóðnun, tónar, bjög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6" descr="ltr-fig"/>
          <p:cNvPicPr/>
          <p:nvPr/>
        </p:nvPicPr>
        <p:blipFill>
          <a:blip r:embed="rId1"/>
          <a:stretch/>
        </p:blipFill>
        <p:spPr>
          <a:xfrm>
            <a:off x="5316480" y="1719360"/>
            <a:ext cx="2700360" cy="2128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kybd-ltr-fig"/>
          <p:cNvPicPr/>
          <p:nvPr/>
        </p:nvPicPr>
        <p:blipFill>
          <a:blip r:embed="rId2"/>
          <a:stretch/>
        </p:blipFill>
        <p:spPr>
          <a:xfrm>
            <a:off x="4648320" y="4282920"/>
            <a:ext cx="4038480" cy="1563840"/>
          </a:xfrm>
          <a:prstGeom prst="rect">
            <a:avLst/>
          </a:prstGeom>
          <a:ln w="0">
            <a:noFill/>
          </a:ln>
        </p:spPr>
      </p:pic>
      <p:sp>
        <p:nvSpPr>
          <p:cNvPr id="509" name="Oval 8"/>
          <p:cNvSpPr/>
          <p:nvPr/>
        </p:nvSpPr>
        <p:spPr>
          <a:xfrm rot="20564400">
            <a:off x="5130720" y="4484160"/>
            <a:ext cx="304920" cy="5050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9"/>
          <p:cNvSpPr/>
          <p:nvPr/>
        </p:nvSpPr>
        <p:spPr>
          <a:xfrm rot="20564400">
            <a:off x="5667120" y="4485960"/>
            <a:ext cx="304560" cy="5047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10"/>
          <p:cNvSpPr/>
          <p:nvPr/>
        </p:nvSpPr>
        <p:spPr>
          <a:xfrm rot="20564400">
            <a:off x="6771960" y="4485960"/>
            <a:ext cx="304920" cy="5047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 rot="20564400">
            <a:off x="7353000" y="4485960"/>
            <a:ext cx="304920" cy="5047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917E-1F49-4129-896F-950FF158F8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Ábendinga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“Þeir svara mér aldrei!”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Á hvolfi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SK rofi fyrir pólun, í stöðin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SK mótun, LSB eða US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MTTY AFC &amp; 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C &amp; NET eru fastsett á!</a:t>
            </a:r>
            <a:br>
              <a:rPr sz="26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og í hvert skipti sem þú velur nýtt snið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ytið staðlaðri uppsetningu í USERPARA.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Arial"/>
              </a:rPr>
              <a:t>Stöðvarmótun, tónar, FSK tengi</a:t>
            </a:r>
            <a:br>
              <a:rPr sz="3000"/>
            </a:br>
            <a:r>
              <a:rPr b="0" lang="en-US" sz="3000" spc="-1" strike="noStrike">
                <a:solidFill>
                  <a:srgbClr val="666699"/>
                </a:solidFill>
                <a:latin typeface="Arial"/>
              </a:rPr>
              <a:t>AFSK: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ljóðnemi &amp; hljóðkortsstilling &amp; raddþjöp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603-595B-416C-8237-72661A14BE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Ábendingar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aðrar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% álag … </a:t>
            </a:r>
            <a:r>
              <a:rPr b="0" i="1" lang="en-US" sz="3000" spc="-1" strike="noStrike">
                <a:solidFill>
                  <a:srgbClr val="ff3300"/>
                </a:solidFill>
                <a:latin typeface="Arial"/>
              </a:rPr>
              <a:t>varú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Æfing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Í fjölda RTTY kepp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jöldaþátttaka (Multi-O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2V &amp; SO2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C21-2DAF-494B-9825-C686CEBF80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chem.ch.huji.ac.il/~eugeniik/history/baudot.ht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www.rttycontesti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nnsla og ábendingar (frá byrjanda til sérfræðing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Log/MMT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rtty@contesti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ölvupósts spjallhring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net tenging RTTY keppnisman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urningar og svö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eimasíður hugbúnað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mmhamsoft.amateur-radio.ca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MMTT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n1mm.hamdocs.com/tiki-index.ph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N1MM Log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www.writelog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WriteLo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7"/>
              </a:rPr>
              <a:t>www.wintest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Win-Tes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gbúnaðar spj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8"/>
              </a:rPr>
              <a:t>mmtty@yahoogroups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MMTT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9"/>
              </a:rPr>
              <a:t>N1MMLogger@yahoogroups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N1MM Logger almen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10"/>
              </a:rPr>
              <a:t>N1MMLogger-Digital@yahoogroups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N1MM Logger RTTY &amp; PSK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11"/>
              </a:rPr>
              <a:t>writelog@contesting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WriteLo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Arial"/>
                <a:hlinkClick r:id="rId12"/>
              </a:rPr>
              <a:t>support@win-test.co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Win-Tes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055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0E31-00EC-4283-983A-BE7886D6FC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keppnir, áframhald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ð byrja RTTY keppnisferilinn (yfir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se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ða móttekna merkis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jöldi afkóða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Þáttta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llkomnun sendra skilaboð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Þekkt kallmerk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Shift On Space; Bil vs. Bandstri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ð hægja á sér til að vinna” (kallmerkja sátan (stacking)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2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2R – SO4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 hugbúnaður: N1MM Logger vs. WriteLog vs. Win-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kamlegi þátturinn (að bera sig rétt a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B07-73A4-489A-8034-FF445516C3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TTY í keppni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ð byr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vað er RT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vernig set ég það up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vernig set ég upp keppn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æstu skr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bendin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Úrræð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Þróaðri RTTY uppset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4539-17B7-4200-99E4-A7923B4806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í samanburði við CW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E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F burðarbylgj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in tónhæð heyritíð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 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eð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Ólyklað er data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yklað er data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Mor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óð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engur 25-40 w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1907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T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Tvæ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burðarbylgj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ð 170Hz millibil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pace &amp; Mark; Skip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ljóð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tó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ar á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o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inn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 er data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 er data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Baud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óð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öðugt 60 wpm</a:t>
            </a:r>
            <a:br>
              <a:rPr sz="22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ða 45.45 B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D68A-4ED0-48CE-BC56-3893D16F82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6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magic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ff0000"/>
                </a:solidFill>
                <a:latin typeface="Arial"/>
              </a:rPr>
              <a:t>Hvað er RTTY?</a:t>
            </a:r>
            <a:r>
              <a:rPr b="1" lang="en-GB" sz="39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9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(Space &amp; Mark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4721400" y="5867280"/>
            <a:ext cx="3168720" cy="29268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rfwireless.rell.com/pdfs/TN_WJfsk.pdf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1219320" y="1695600"/>
            <a:ext cx="6762600" cy="4294080"/>
            <a:chOff x="1219320" y="1695600"/>
            <a:chExt cx="6762600" cy="4294080"/>
          </a:xfrm>
        </p:grpSpPr>
        <p:pic>
          <p:nvPicPr>
            <p:cNvPr id="194" name="Picture 6" descr=""/>
            <p:cNvPicPr/>
            <p:nvPr/>
          </p:nvPicPr>
          <p:blipFill>
            <a:blip r:embed="rId2"/>
            <a:stretch/>
          </p:blipFill>
          <p:spPr>
            <a:xfrm>
              <a:off x="1219320" y="1695600"/>
              <a:ext cx="6762600" cy="42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AutoShape 7"/>
            <p:cNvSpPr/>
            <p:nvPr/>
          </p:nvSpPr>
          <p:spPr>
            <a:xfrm>
              <a:off x="1219320" y="1695600"/>
              <a:ext cx="6762600" cy="4294080"/>
            </a:xfrm>
            <a:prstGeom prst="roundRect">
              <a:avLst>
                <a:gd name="adj" fmla="val 3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54:53Z</dcterms:created>
  <dc:creator>Ed Muns, W0YK</dc:creator>
  <dc:description/>
  <cp:keywords>RTTY contesting getting started CTU</cp:keywords>
  <dc:language>en-US</dc:language>
  <cp:lastModifiedBy>A.Oskarsson</cp:lastModifiedBy>
  <cp:lastPrinted>2007-03-27T17:23:57Z</cp:lastPrinted>
  <dcterms:modified xsi:type="dcterms:W3CDTF">2011-11-20T19:57:20Z</dcterms:modified>
  <cp:revision>320</cp:revision>
  <dc:subject>Getting Started in RTTY Contesting</dc:subject>
  <dc:title>Getting Started in RTTY Contesting</dc:title>
</cp:coreProperties>
</file>